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AEE-DF8F-4E52-B59E-C4F9672B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467-79AF-4F12-990F-4BA2EA8C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E37-FC5D-4629-9297-319B3947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4B0-E66A-4C75-B9BC-F61F2B45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C34E-EB88-407B-A01E-E3701FD0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5E5F-DD92-49FD-9C44-5C6239E1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3CD4-8566-44EE-8FF6-C035A404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FD6F-D75A-4B31-A793-57A03039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2219-71F8-4CD1-9308-964BF8D2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5155-320F-4EC2-98B7-5104CE76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89A2-E0E6-434D-8D51-F06536A0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777-1361-486C-B2F3-8339A19C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6D83-E209-44B8-9EC4-9B2472FC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FC6C-2E38-4C71-B4C4-24EA9963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AA88-C09D-48CA-849D-A00FC19A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6641-FD7E-4F0B-AF2E-A03A7FC5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8F42-8EA7-49F9-AEA7-EC208604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ECF-B8E2-443F-84D2-468DA231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833-37BA-4658-9A53-DAA0B602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002-45F6-485C-B860-A6347193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7A9-8472-48A5-A386-98B158BD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172-6C13-4A27-93E2-7E0B71EE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013-BC5C-44A2-BBCA-79ADE210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B21-C635-416C-B1CD-A2909CE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405A-8C81-4CD8-9666-0C90812044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6FCB-0086-4143-94BC-858D89F3211B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The 4</a:t>
            </a:r>
            <a:r>
              <a:rPr b="1" lang="en-US" sz="4400" spc="-1" strike="noStrike" baseline="30000">
                <a:solidFill>
                  <a:srgbClr val="f7cc17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 Language System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gma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Nonstandard forms of English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reflect the communities of the speakers (speakers communicate as effectively as those who use Standard Englis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 is for students to add Standard English to language register, not replace home dial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Food for Though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students who speak nonstandard English read texts written in Standard English, they often translate what they read into their own dialect. 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 of linguistically diverse students must implement a literacy program that is sensitive to and reflective of students’ backgrounds and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Pragmatic Problem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ced by the inability to adapt language to speaking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show little variety in language 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say inappropriate or unrelated things during convers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tell stories in a disorganized 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If pragmatic disorder exists, generally coexists w/other language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Pragmatics Defined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 use impacted directly by the rules that govern a given social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social situations vary greatly, the pragmatic system houses a great deal of language var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 use varies among social classes, cultural and ethnic groups, and geographic regions (dialec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3 Major Communication Skills of Pragmatics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language for different purp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ing or changing language according to the needs or expectations of a listener or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ing rules for conversations and narr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Using Language for Different Purposes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is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Adapting or Changing Language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s upon the needs of the listener or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king to a baby differs from talking to an ad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aking in front of a group who share your culture vs. speaking to a group who does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sing with a family member vs. conversing with your b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Narrative Example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ling stories (verbal and writt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ing book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unting events of the 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Rules for Conversations 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s for taking turns in a conver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ing topics of conver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ing on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hrasing when not underst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ling a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Rules for Conversations:  Nonverbal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ance between speaker and liste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al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ye cont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ectionate tou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Rules may vary depending on language and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Nonstandard forms of English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alachian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Vernacular English (B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lla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ern White Engl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xican Americ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9:29:30Z</dcterms:created>
  <dc:creator>Bill </dc:creator>
  <dc:description/>
  <cp:keywords/>
  <dc:language>en-US</dc:language>
  <cp:lastModifiedBy>Bill </cp:lastModifiedBy>
  <dcterms:modified xsi:type="dcterms:W3CDTF">2007-06-03T18:32:56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